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F53B-B57D-4317-AC1B-23C4084C3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17FE-77B9-4CFD-B690-3A669303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EFB0-6B83-4F3F-967D-98946C81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808-A251-41FA-8996-0B0E2C042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CC45-1A26-44BA-BB77-A292DCDF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7686-B65F-42E3-8A02-5B881B90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FA5A-2A46-40FB-B08F-0C2162E8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AADC-6931-4BD7-9496-479EA1AE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515B-EC36-4182-A6D7-BAA9AA36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9826E-46DE-4E68-90FE-82107784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36CF-FA79-4338-B928-B538C5D1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A570-FFEF-4854-B76C-A8437AFC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3DAA-9ACD-42EA-AC00-80F5AFC4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BFA5-5056-4F1E-B958-333439E6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686A-70A5-44F6-A012-9F1EC48E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44EC-07DC-43E2-AF95-334F274F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8F27-A8C8-46FD-B8E4-F168D277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E4A2-E255-4BC7-A8B0-17017AB8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8F5-E191-4C7F-AEFF-1493E497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3407-433D-4650-BBA7-F31975A1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9E33-DCB5-458E-BE65-46A1F39E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0AC-63ED-4645-B8D0-943276EC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4D4E-F739-45F6-8F67-5E58A4F9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2D91-CAE0-44DF-92A1-4DE6B23A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68C2-6CB3-4A63-98C8-9DEA6DE3E54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C018-A9BF-41CF-9D3F-23D558D12D4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climateprogress.org/wp-content/uploads/2008/04/corn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limateprogress.org/wp-content/uploads/2008/04/corn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climateprogress.org/wp-content/uploads/2008/04/corn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Alternative Energy:   Ch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0520" y="151920"/>
            <a:ext cx="854100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Solar tow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Sun tracking mirrors focus the heat of the sun (550 – 1500 F) on a receiver (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Heats water or molten salt (2) (salt stores heat longe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Generates steam for electricity (3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7772400" y="4876920"/>
            <a:ext cx="0" cy="609480"/>
          </a:xfrm>
          <a:prstGeom prst="line">
            <a:avLst/>
          </a:prstGeom>
          <a:ln w="57240">
            <a:solidFill>
              <a:srgbClr val="eeece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Benefits of Solar Po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roblems of Solar Po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’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ensive to startup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ysilicon Solar cells are cos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large initial capital invest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lots of land (dese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n’t create energy at night or cloudy days, need to store in battery on good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Wind Po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1320" y="1676160"/>
            <a:ext cx="80802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● </a:t>
            </a:r>
            <a:r>
              <a:rPr b="0" lang="en-US" sz="3500" spc="-1" strike="noStrike">
                <a:solidFill>
                  <a:srgbClr val="000000"/>
                </a:solidFill>
                <a:latin typeface="Calisto MT"/>
              </a:rPr>
              <a:t>Wind machines use blades to collect the wind’s kinetic energy. The wind turns the blades, which spin a shaft, which connects to a generator and makes electricity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Environmental Benef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1680" y="16765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Environmental Proble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Economic Problem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idal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t fully develop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Effects on the environ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Machine fla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ed big tide different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Biofuels (Ethanol from Cor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2 gall of ethanol = energy of 28 gal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ufacture uses lots of natural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burn coal to make it!!! (CO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shipped in pipelines…trucked (CO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esel machines harvest it (CO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cor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4724280"/>
            <a:ext cx="16765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chart_jl_enviro2006_08_530"/>
          <p:cNvPicPr/>
          <p:nvPr/>
        </p:nvPicPr>
        <p:blipFill>
          <a:blip r:embed="rId1"/>
          <a:stretch/>
        </p:blipFill>
        <p:spPr>
          <a:xfrm>
            <a:off x="228600" y="380880"/>
            <a:ext cx="8534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ields only 10% more energy than required to make it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rtilizing fields, harvesting, distilling to alco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ar Cane is 7X more efficien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Sugar Cane needs less processing (don’t need to convert to sugar to distill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We heavily tax Brazilian ethanol to prevent competition 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cor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2920" y="304920"/>
            <a:ext cx="1342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ellulose Ethan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d fuel 1/3 of all c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vest waste stalks (no extra fertilizer to grow th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stalk than ker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sugars removed, can burn lignin left over; get heat for cogeneration (elec ener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5" descr="cor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34320" y="380880"/>
            <a:ext cx="198108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3520" y="307800"/>
          <a:ext cx="7696080" cy="63979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83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800080"/>
                          </a:solidFill>
                          <a:uFillTx/>
                          <a:latin typeface="Arial"/>
                        </a:rPr>
                        <a:t>Co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800080"/>
                          </a:solidFill>
                          <a:uFillTx/>
                          <a:latin typeface="Arial"/>
                        </a:rPr>
                        <a:t>Alga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ve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turing energy from surface wave mo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-207360"/>
            <a:ext cx="8510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168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nefi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nificant amount of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le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ing utilized tod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theastern &amp; northwestern coasts of United Sta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Geotherm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1320" y="1676160"/>
            <a:ext cx="62514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800080"/>
                </a:solidFill>
                <a:uFillTx/>
                <a:latin typeface="Calibri"/>
              </a:rPr>
              <a:t>High Heat Sourc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Magma heats rocks and aquifer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Drill a well to bring hot water/steam to surfac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team turns turbine to make electricity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Hot Rock Geothermal Energy"/>
          <p:cNvPicPr/>
          <p:nvPr/>
        </p:nvPicPr>
        <p:blipFill>
          <a:blip r:embed="rId1"/>
          <a:stretch/>
        </p:blipFill>
        <p:spPr>
          <a:xfrm>
            <a:off x="6629400" y="2362320"/>
            <a:ext cx="23623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24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800080"/>
                </a:solidFill>
                <a:uFillTx/>
                <a:latin typeface="Times New Roman"/>
              </a:rPr>
              <a:t>Low heat sources (Groundwater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esent virtually everywher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onstant temperature groundwater is used to pump through house to warm it or cool i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ore efficient, not converting one form of energy to another, simply transferring he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Benef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robl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hotovoltaic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To make electr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ght to electricity at the atomic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s a solid semiconductor material like silic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orbs photons and releases electrons that are captured and flow through a wi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s electric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Direct 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ssive solar energy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light passively heating a house, water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proper building desig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20:05:18Z</dcterms:created>
  <dc:creator>tosborne</dc:creator>
  <dc:description/>
  <dc:language>en-US</dc:language>
  <cp:lastModifiedBy>infosys</cp:lastModifiedBy>
  <dcterms:modified xsi:type="dcterms:W3CDTF">2017-01-04T21:18:52Z</dcterms:modified>
  <cp:revision>32</cp:revision>
  <dc:subject/>
  <dc:title>Slide 1</dc:title>
</cp:coreProperties>
</file>